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3A2-1E1F-4C27-99D0-7DF98775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DEF-42BC-4F9D-ABB6-3A2D2367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045-EC72-4F84-A54C-81F22EB9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055-EC31-46A6-AADC-260C17F4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EE8F0-9E9E-40E2-A99B-1B836003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F02A5-DAB0-43C9-A68F-AB8A6E47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57815-6445-4F7C-8110-D131C48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949E2-70E3-40A9-BDFF-22646AF5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F7C97-6527-464B-A45B-ED41A7DE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148C2-63C2-4722-8CA8-E674429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3D0ED-9972-4D08-948D-8BE499A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2C7-3304-4A48-9EB0-A70DBCEA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12F14-1A96-4F7A-851A-4E4BC15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D99CF-CB9F-470C-8FEB-0B1FF19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64B2F-F114-4153-8F71-520D6745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B1E1F-BAF2-42E6-9E21-05DC51FC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17AE7-2B88-4F09-A35F-FE84459E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B5D-00FB-43DD-AFCD-0DDC54A8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C53-1332-439C-9D0B-750D195B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FA8-3EBD-4D84-95DB-409772C7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C15-7B06-4E76-ADFB-9818A23F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5D3-DBE5-4669-A91F-724FA9DE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CC0-362E-407B-B2D5-BFB7A74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B09-4AC4-4C19-AC33-C24D63E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EC57-F010-4953-BCAF-5C09F289410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B1FD-319F-4A2A-8D20-00A3EF18A27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nt.apache.org/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1447920"/>
            <a:ext cx="8435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Introduction to Apache A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ngchao Y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Stat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t. of EC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3/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04640"/>
            <a:ext cx="12240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’s and why Ant 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pache Software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pen source Java-based build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ut more user-friendly, especially for Java application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platform: Java and 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260280"/>
            <a:ext cx="10000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atomy of A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---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in  // contains launcher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+--- 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+--- ant.jar, optional.j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+--- xml-apis.jar, xercesImpl.j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+--- docs  // op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+--- etc     // op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260280"/>
            <a:ext cx="10000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sage of Ant (in Linux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environment variables: ANT_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$ANT_HOME/bin to the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build.xml for our own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ant to build our own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$ a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$ ant -buildfile test.xm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260280"/>
            <a:ext cx="10000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write buildfile 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buildfile contains one project and at least one (default) tar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s contain task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ask is a piece of code that can be exec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+--- Target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+--- Task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260280"/>
            <a:ext cx="10000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write buildfile I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project name="MyProject" default= "compile" basedir=“/home/yusc/cpre55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property name="src" location="src"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property name="build" location="build"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</a:t>
            </a:r>
            <a:r>
              <a:rPr b="0" lang="en-US" sz="1800" spc="-1" strike="noStrike">
                <a:solidFill>
                  <a:srgbClr val="99ff99"/>
                </a:solidFill>
                <a:latin typeface="Arial Unicode MS"/>
              </a:rPr>
              <a:t>target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name="init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mkdir dir="${build}"/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/target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</a:t>
            </a:r>
            <a:r>
              <a:rPr b="0" lang="en-US" sz="1800" spc="-1" strike="noStrike">
                <a:solidFill>
                  <a:srgbClr val="99ff99"/>
                </a:solidFill>
                <a:latin typeface="Arial Unicode MS"/>
              </a:rPr>
              <a:t>target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name="compile" depends="init" 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javac srcdir="${src}" destdir="${build}"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&lt;/project&gt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260280"/>
            <a:ext cx="10000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unning A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“$ /home/yusc/cpre550/a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 of Bas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Befo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Af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home/yusc/cpre55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/home/yusc/cpre5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--- build.xm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+--- build.xm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--- sr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+--- sr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--- proj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---common.jav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99ff99"/>
                </a:solidFill>
                <a:latin typeface="Arial"/>
              </a:rPr>
              <a:t>+--- bui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--- cli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ff99"/>
                </a:solidFill>
                <a:latin typeface="Arial"/>
              </a:rPr>
              <a:t>+--- proj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---cli.jav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99ff99"/>
                </a:solidFill>
                <a:latin typeface="Arial"/>
              </a:rPr>
              <a:t>+--- common.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--- serv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99ff99"/>
                </a:solidFill>
                <a:latin typeface="Arial"/>
              </a:rPr>
              <a:t>+---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---srv.jav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ff99"/>
                </a:solidFill>
                <a:latin typeface="Arial"/>
              </a:rPr>
              <a:t>+--- cli.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en-US" sz="1600" spc="-1" strike="noStrike">
                <a:solidFill>
                  <a:srgbClr val="99ff99"/>
                </a:solidFill>
                <a:latin typeface="Arial"/>
              </a:rPr>
              <a:t>+---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99ff99"/>
                </a:solidFill>
                <a:latin typeface="Arial"/>
              </a:rPr>
              <a:t>+--- srv.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260280"/>
            <a:ext cx="10000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stalling A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3505320"/>
            <a:ext cx="44960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E Linux Server(bas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the following to .bashrc and .bash_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xport ANT_HOME=/home/yusc/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xport JAVA_HOME=/usr/local/ja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xport PATH=${PATH}:${ANT_HOME}/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920" y="35049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up for 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t ANT_HOME=u:\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t JAVA_HOME=c:\jdk1.2.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t PATH=%PATH%;%ANT_HOME%\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260280"/>
            <a:ext cx="1000080" cy="619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7200" y="121932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load bin/srv version from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ant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act it to a directory, eg. /home/yusc/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 Ant if you downloaded a source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te “docs” directory if you have no enough disk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re about A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lope: GUI for 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ng Ant with Emacs, Netbean, JBuilder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out from documents of Ant and http://ant.apach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260280"/>
            <a:ext cx="10000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6:36:29Z</dcterms:created>
  <dc:creator>James Yu</dc:creator>
  <dc:description/>
  <dc:language>en-US</dc:language>
  <cp:lastModifiedBy>yusc</cp:lastModifiedBy>
  <dcterms:modified xsi:type="dcterms:W3CDTF">2003-03-28T03:47:12Z</dcterms:modified>
  <cp:revision>21</cp:revision>
  <dc:subject/>
  <dc:title>Introduction to A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